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3BA-FF09-45FB-811C-1D386B7A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4F2-845B-4767-8C73-E01A19DD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B0C-B5C5-489C-B131-2BA4F013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E6D-6FF3-478D-92CB-D84D8DC6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DC06-5136-4C84-9B31-9DABBDDF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F140-B3A3-4EB9-95FA-A9D387F7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736-ABFA-4C3A-9D30-9CD2162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CCC-CDF1-421A-8869-C35479B9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448A-2421-4A2E-85EC-D650270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106-AE45-4035-AEDD-1563B5C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E982-CB8D-4CE1-B51F-A42B47B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B45-73BA-4355-BE96-D5139C14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423-9B35-4B0C-96B3-483D434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0562-2E60-487F-A0D1-B3097A8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CA49-FC5E-4C59-97DF-5E9718FD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0AA0-3BF4-4378-8982-121B1993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9E7-D3CF-4C11-9FBC-3B2AFCA3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2D0-F291-4596-A684-C44A24FA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8DD-5803-4185-8653-8292D69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8E5-2B1B-4781-B683-13652CF0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3E4-39AC-4DE0-A79B-76BE2DB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4B7-F750-42C9-9E88-9D10E69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5A5-E6A6-4E52-8FB0-4CE229B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50B-2C5D-4F64-8A1B-D231AE6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0526-5CF0-4DCC-A4F1-C1F1FF16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94C-A985-46E3-B3A3-D944AA15F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0"/>
            <a:ext cx="350496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صَعِدتَ إلى العُلى وسبيتَ السبيَ وأعطيتَ عطايا أيها الإله        الله معنا وهو إلهُ التخليص وللرب السيدِ مخارجُ الم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   في وَسطِ عذار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0" y="5961600"/>
            <a:ext cx="914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أشيدوا ل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52:37Z</dcterms:created>
  <dc:creator>HANI SAFI</dc:creator>
  <dc:description/>
  <dc:language>en-US</dc:language>
  <cp:lastModifiedBy>HANI SAFI</cp:lastModifiedBy>
  <dcterms:modified xsi:type="dcterms:W3CDTF">2003-05-30T06:58:48Z</dcterms:modified>
  <cp:revision>1</cp:revision>
  <dc:subject/>
  <dc:title>Slide 1</dc:title>
</cp:coreProperties>
</file>